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DBC2-4203-4713-873E-53788264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77E-808A-44C0-86ED-D770A0D2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5B7F-9962-4C65-9E93-50C308D5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9480-B929-42D8-A275-58596A7B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971-596A-4458-9892-12C2F9B1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C49-707D-4F74-8DC7-CF81F872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8A8-5B48-4281-89F6-77B4688F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9B4-FAD2-4F1E-8D9A-56CB11A4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D424-D024-4330-9169-F2AC0039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C538-92EF-46C5-A421-B1E66F72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4A2F-ADAF-4313-A4F6-D672AB4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D72-2A55-415E-908A-4464651C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2A2D-B7EB-4D71-AC75-215A065470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842920" y="2060640"/>
            <a:ext cx="4310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中宋"/>
              </a:rPr>
              <a:t>11.3.1  </a:t>
            </a:r>
            <a:r>
              <a:rPr b="1" lang="zh-CN" sz="6000" spc="-1" strike="noStrike">
                <a:solidFill>
                  <a:srgbClr val="ff0000"/>
                </a:solidFill>
                <a:latin typeface="华文中宋"/>
              </a:rPr>
              <a:t>多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6948360" y="62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724360" y="1628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940360" y="3429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956720" y="342900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8531280" y="213372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6084360" y="1052640"/>
            <a:ext cx="2449800" cy="2447640"/>
            <a:chOff x="6084360" y="1052640"/>
            <a:chExt cx="2449800" cy="2447640"/>
          </a:xfrm>
        </p:grpSpPr>
        <p:sp>
          <p:nvSpPr>
            <p:cNvPr id="238" name="Line 8"/>
            <p:cNvSpPr/>
            <p:nvPr/>
          </p:nvSpPr>
          <p:spPr>
            <a:xfrm flipH="1">
              <a:off x="6084360" y="1052640"/>
              <a:ext cx="1251720" cy="10303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9"/>
            <p:cNvSpPr/>
            <p:nvPr/>
          </p:nvSpPr>
          <p:spPr>
            <a:xfrm>
              <a:off x="6084720" y="2082960"/>
              <a:ext cx="109080" cy="1416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0"/>
            <p:cNvSpPr/>
            <p:nvPr/>
          </p:nvSpPr>
          <p:spPr>
            <a:xfrm>
              <a:off x="6193800" y="3500280"/>
              <a:ext cx="20142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1"/>
            <p:cNvSpPr/>
            <p:nvPr/>
          </p:nvSpPr>
          <p:spPr>
            <a:xfrm flipV="1">
              <a:off x="8208000" y="2598480"/>
              <a:ext cx="326160" cy="9014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 flipH="1" flipV="1">
              <a:off x="7336080" y="1052640"/>
              <a:ext cx="1197720" cy="15458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Line 21"/>
          <p:cNvSpPr/>
          <p:nvPr/>
        </p:nvSpPr>
        <p:spPr>
          <a:xfrm flipH="1">
            <a:off x="6227280" y="1052640"/>
            <a:ext cx="1081080" cy="244764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7308720" y="1052640"/>
            <a:ext cx="863640" cy="244764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084720" y="2060640"/>
            <a:ext cx="2448000" cy="576360"/>
          </a:xfrm>
          <a:prstGeom prst="line">
            <a:avLst/>
          </a:prstGeom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5"/>
          <p:cNvSpPr/>
          <p:nvPr/>
        </p:nvSpPr>
        <p:spPr>
          <a:xfrm>
            <a:off x="611280" y="1341360"/>
            <a:ext cx="51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连接多边形不相邻的两个顶点的线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叫做多边形的对角线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1140840" y="3068640"/>
            <a:ext cx="423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图中的线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611280" y="486900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三角形是最简单的多边形，研究可借助对角线将其分为若干个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560" y="549000"/>
            <a:ext cx="3276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华文中宋"/>
              </a:rPr>
              <a:t>多边形的对角线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75960" y="685800"/>
            <a:ext cx="1981440" cy="1981080"/>
            <a:chOff x="75960" y="685800"/>
            <a:chExt cx="1981440" cy="1981080"/>
          </a:xfrm>
        </p:grpSpPr>
        <p:sp>
          <p:nvSpPr>
            <p:cNvPr id="251" name="Line 3"/>
            <p:cNvSpPr/>
            <p:nvPr/>
          </p:nvSpPr>
          <p:spPr>
            <a:xfrm flipH="1">
              <a:off x="75960" y="685800"/>
              <a:ext cx="990360" cy="19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"/>
            <p:cNvSpPr/>
            <p:nvPr/>
          </p:nvSpPr>
          <p:spPr>
            <a:xfrm flipV="1">
              <a:off x="76320" y="2514240"/>
              <a:ext cx="198108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 flipH="1" flipV="1">
              <a:off x="1066680" y="685800"/>
              <a:ext cx="99072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6"/>
          <p:cNvGrpSpPr/>
          <p:nvPr/>
        </p:nvGrpSpPr>
        <p:grpSpPr>
          <a:xfrm>
            <a:off x="3885840" y="304560"/>
            <a:ext cx="2210040" cy="1981080"/>
            <a:chOff x="3885840" y="304560"/>
            <a:chExt cx="2210040" cy="1981080"/>
          </a:xfrm>
        </p:grpSpPr>
        <p:sp>
          <p:nvSpPr>
            <p:cNvPr id="255" name="Line 7"/>
            <p:cNvSpPr/>
            <p:nvPr/>
          </p:nvSpPr>
          <p:spPr>
            <a:xfrm flipV="1">
              <a:off x="4419360" y="304560"/>
              <a:ext cx="129564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 flipH="1">
              <a:off x="3885840" y="380880"/>
              <a:ext cx="53316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5715000" y="304920"/>
              <a:ext cx="380880" cy="137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4724280" y="1676160"/>
              <a:ext cx="13716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 flipV="1">
              <a:off x="3886200" y="1218600"/>
              <a:ext cx="8380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2057400" y="609480"/>
            <a:ext cx="2514600" cy="2361960"/>
            <a:chOff x="2057400" y="609480"/>
            <a:chExt cx="2514600" cy="2361960"/>
          </a:xfrm>
        </p:grpSpPr>
        <p:sp>
          <p:nvSpPr>
            <p:cNvPr id="261" name="Line 13"/>
            <p:cNvSpPr/>
            <p:nvPr/>
          </p:nvSpPr>
          <p:spPr>
            <a:xfrm flipV="1">
              <a:off x="2057400" y="609480"/>
              <a:ext cx="14479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4"/>
            <p:cNvSpPr/>
            <p:nvPr/>
          </p:nvSpPr>
          <p:spPr>
            <a:xfrm>
              <a:off x="2057400" y="1066680"/>
              <a:ext cx="15228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5"/>
            <p:cNvSpPr/>
            <p:nvPr/>
          </p:nvSpPr>
          <p:spPr>
            <a:xfrm>
              <a:off x="3505320" y="609480"/>
              <a:ext cx="1066680" cy="236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6"/>
            <p:cNvSpPr/>
            <p:nvPr/>
          </p:nvSpPr>
          <p:spPr>
            <a:xfrm flipH="1" flipV="1">
              <a:off x="2209680" y="2437920"/>
              <a:ext cx="23623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7"/>
          <p:cNvGrpSpPr/>
          <p:nvPr/>
        </p:nvGrpSpPr>
        <p:grpSpPr>
          <a:xfrm>
            <a:off x="6171840" y="762120"/>
            <a:ext cx="2972160" cy="2361960"/>
            <a:chOff x="6171840" y="762120"/>
            <a:chExt cx="2972160" cy="2361960"/>
          </a:xfrm>
        </p:grpSpPr>
        <p:sp>
          <p:nvSpPr>
            <p:cNvPr id="266" name="Line 18"/>
            <p:cNvSpPr/>
            <p:nvPr/>
          </p:nvSpPr>
          <p:spPr>
            <a:xfrm>
              <a:off x="6934320" y="762120"/>
              <a:ext cx="1600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9"/>
            <p:cNvSpPr/>
            <p:nvPr/>
          </p:nvSpPr>
          <p:spPr>
            <a:xfrm flipH="1">
              <a:off x="6171840" y="762120"/>
              <a:ext cx="7621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0"/>
            <p:cNvSpPr/>
            <p:nvPr/>
          </p:nvSpPr>
          <p:spPr>
            <a:xfrm>
              <a:off x="6172200" y="1828800"/>
              <a:ext cx="83808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1"/>
            <p:cNvSpPr/>
            <p:nvPr/>
          </p:nvSpPr>
          <p:spPr>
            <a:xfrm>
              <a:off x="7010280" y="312408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22"/>
            <p:cNvSpPr/>
            <p:nvPr/>
          </p:nvSpPr>
          <p:spPr>
            <a:xfrm>
              <a:off x="8534520" y="762120"/>
              <a:ext cx="60948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23"/>
            <p:cNvSpPr/>
            <p:nvPr/>
          </p:nvSpPr>
          <p:spPr>
            <a:xfrm flipH="1">
              <a:off x="8686800" y="1905120"/>
              <a:ext cx="4572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24"/>
          <p:cNvSpPr/>
          <p:nvPr/>
        </p:nvSpPr>
        <p:spPr>
          <a:xfrm>
            <a:off x="206640" y="0"/>
            <a:ext cx="790200" cy="703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探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6320" y="3252960"/>
          <a:ext cx="9067680" cy="3511440"/>
        </p:xfrm>
        <a:graphic>
          <a:graphicData uri="http://schemas.openxmlformats.org/drawingml/2006/table">
            <a:tbl>
              <a:tblPr/>
              <a:tblGrid>
                <a:gridCol w="2361960"/>
                <a:gridCol w="914400"/>
                <a:gridCol w="914400"/>
                <a:gridCol w="838440"/>
                <a:gridCol w="838080"/>
                <a:gridCol w="914400"/>
                <a:gridCol w="76212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边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5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从一个顶点出发的对角线的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上述对角线分成的三角形个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总的对角线条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960" rIns="396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274" name="Text Box 74"/>
          <p:cNvSpPr/>
          <p:nvPr/>
        </p:nvSpPr>
        <p:spPr>
          <a:xfrm>
            <a:off x="2678400" y="39164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75"/>
          <p:cNvSpPr/>
          <p:nvPr/>
        </p:nvSpPr>
        <p:spPr>
          <a:xfrm>
            <a:off x="2678400" y="48769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6"/>
          <p:cNvSpPr/>
          <p:nvPr/>
        </p:nvSpPr>
        <p:spPr>
          <a:xfrm>
            <a:off x="2678400" y="59436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7"/>
          <p:cNvSpPr/>
          <p:nvPr/>
        </p:nvSpPr>
        <p:spPr>
          <a:xfrm flipH="1">
            <a:off x="2209320" y="609480"/>
            <a:ext cx="12956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8"/>
          <p:cNvSpPr/>
          <p:nvPr/>
        </p:nvSpPr>
        <p:spPr>
          <a:xfrm>
            <a:off x="3640320" y="39625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9"/>
          <p:cNvSpPr/>
          <p:nvPr/>
        </p:nvSpPr>
        <p:spPr>
          <a:xfrm>
            <a:off x="3648240" y="48769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0"/>
          <p:cNvSpPr/>
          <p:nvPr/>
        </p:nvSpPr>
        <p:spPr>
          <a:xfrm>
            <a:off x="3669120" y="59738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1"/>
          <p:cNvSpPr/>
          <p:nvPr/>
        </p:nvSpPr>
        <p:spPr>
          <a:xfrm flipH="1">
            <a:off x="3886200" y="304920"/>
            <a:ext cx="18288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82"/>
          <p:cNvSpPr/>
          <p:nvPr/>
        </p:nvSpPr>
        <p:spPr>
          <a:xfrm flipH="1">
            <a:off x="4759200" y="304920"/>
            <a:ext cx="91440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3"/>
          <p:cNvSpPr/>
          <p:nvPr/>
        </p:nvSpPr>
        <p:spPr>
          <a:xfrm>
            <a:off x="4478760" y="3968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84"/>
          <p:cNvSpPr/>
          <p:nvPr/>
        </p:nvSpPr>
        <p:spPr>
          <a:xfrm>
            <a:off x="4480200" y="4883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5"/>
          <p:cNvSpPr/>
          <p:nvPr/>
        </p:nvSpPr>
        <p:spPr>
          <a:xfrm>
            <a:off x="4478760" y="59706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6"/>
          <p:cNvSpPr/>
          <p:nvPr/>
        </p:nvSpPr>
        <p:spPr>
          <a:xfrm>
            <a:off x="3886200" y="1219320"/>
            <a:ext cx="220968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87"/>
          <p:cNvSpPr/>
          <p:nvPr/>
        </p:nvSpPr>
        <p:spPr>
          <a:xfrm flipH="1" flipV="1">
            <a:off x="4343400" y="380520"/>
            <a:ext cx="1752480" cy="129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>
            <a:off x="4419720" y="457200"/>
            <a:ext cx="38088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9"/>
          <p:cNvSpPr/>
          <p:nvPr/>
        </p:nvSpPr>
        <p:spPr>
          <a:xfrm flipV="1">
            <a:off x="6172200" y="761760"/>
            <a:ext cx="243828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0"/>
          <p:cNvSpPr/>
          <p:nvPr/>
        </p:nvSpPr>
        <p:spPr>
          <a:xfrm>
            <a:off x="6172200" y="1828800"/>
            <a:ext cx="297180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1"/>
          <p:cNvSpPr/>
          <p:nvPr/>
        </p:nvSpPr>
        <p:spPr>
          <a:xfrm>
            <a:off x="6172200" y="1828800"/>
            <a:ext cx="259092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2"/>
          <p:cNvSpPr/>
          <p:nvPr/>
        </p:nvSpPr>
        <p:spPr>
          <a:xfrm>
            <a:off x="5324760" y="39686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3"/>
          <p:cNvSpPr/>
          <p:nvPr/>
        </p:nvSpPr>
        <p:spPr>
          <a:xfrm>
            <a:off x="5310360" y="488304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4"/>
          <p:cNvSpPr/>
          <p:nvPr/>
        </p:nvSpPr>
        <p:spPr>
          <a:xfrm>
            <a:off x="6934320" y="762120"/>
            <a:ext cx="75960" cy="236196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5"/>
          <p:cNvSpPr/>
          <p:nvPr/>
        </p:nvSpPr>
        <p:spPr>
          <a:xfrm>
            <a:off x="6934320" y="762120"/>
            <a:ext cx="1828800" cy="236196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96"/>
          <p:cNvSpPr/>
          <p:nvPr/>
        </p:nvSpPr>
        <p:spPr>
          <a:xfrm>
            <a:off x="6934320" y="762120"/>
            <a:ext cx="2209680" cy="1143000"/>
          </a:xfrm>
          <a:prstGeom prst="line">
            <a:avLst/>
          </a:prstGeom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98"/>
          <p:cNvSpPr/>
          <p:nvPr/>
        </p:nvSpPr>
        <p:spPr>
          <a:xfrm flipH="1">
            <a:off x="7010280" y="762120"/>
            <a:ext cx="1524240" cy="23619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99"/>
          <p:cNvSpPr/>
          <p:nvPr/>
        </p:nvSpPr>
        <p:spPr>
          <a:xfrm>
            <a:off x="8534520" y="762120"/>
            <a:ext cx="152280" cy="2286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00"/>
          <p:cNvSpPr/>
          <p:nvPr/>
        </p:nvSpPr>
        <p:spPr>
          <a:xfrm flipH="1">
            <a:off x="7009920" y="1905120"/>
            <a:ext cx="213372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1"/>
          <p:cNvSpPr/>
          <p:nvPr/>
        </p:nvSpPr>
        <p:spPr>
          <a:xfrm>
            <a:off x="5289840" y="59641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2"/>
          <p:cNvSpPr/>
          <p:nvPr/>
        </p:nvSpPr>
        <p:spPr>
          <a:xfrm>
            <a:off x="6183720" y="39625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3"/>
          <p:cNvSpPr/>
          <p:nvPr/>
        </p:nvSpPr>
        <p:spPr>
          <a:xfrm>
            <a:off x="6183720" y="48769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4"/>
          <p:cNvSpPr/>
          <p:nvPr/>
        </p:nvSpPr>
        <p:spPr>
          <a:xfrm>
            <a:off x="6055200" y="59738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5"/>
          <p:cNvSpPr/>
          <p:nvPr/>
        </p:nvSpPr>
        <p:spPr>
          <a:xfrm>
            <a:off x="8032320" y="388620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06"/>
          <p:cNvSpPr/>
          <p:nvPr/>
        </p:nvSpPr>
        <p:spPr>
          <a:xfrm>
            <a:off x="8002080" y="4906800"/>
            <a:ext cx="7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07"/>
          <p:cNvGrpSpPr/>
          <p:nvPr/>
        </p:nvGrpSpPr>
        <p:grpSpPr>
          <a:xfrm>
            <a:off x="7696080" y="5715000"/>
            <a:ext cx="1447920" cy="1041840"/>
            <a:chOff x="7696080" y="5715000"/>
            <a:chExt cx="1447920" cy="1041840"/>
          </a:xfrm>
        </p:grpSpPr>
        <p:sp>
          <p:nvSpPr>
            <p:cNvPr id="307" name="Text Box 108"/>
            <p:cNvSpPr/>
            <p:nvPr/>
          </p:nvSpPr>
          <p:spPr>
            <a:xfrm>
              <a:off x="7889040" y="5715000"/>
              <a:ext cx="120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n(n-3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09"/>
            <p:cNvSpPr/>
            <p:nvPr/>
          </p:nvSpPr>
          <p:spPr>
            <a:xfrm>
              <a:off x="7696080" y="6248520"/>
              <a:ext cx="1447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10"/>
            <p:cNvSpPr/>
            <p:nvPr/>
          </p:nvSpPr>
          <p:spPr>
            <a:xfrm>
              <a:off x="8268120" y="6175440"/>
              <a:ext cx="3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Line 111"/>
          <p:cNvSpPr/>
          <p:nvPr/>
        </p:nvSpPr>
        <p:spPr>
          <a:xfrm>
            <a:off x="2057400" y="1066680"/>
            <a:ext cx="2514600" cy="1905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12"/>
          <p:cNvSpPr/>
          <p:nvPr/>
        </p:nvSpPr>
        <p:spPr>
          <a:xfrm>
            <a:off x="1908000" y="549360"/>
            <a:ext cx="5688360" cy="237492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13"/>
          <p:cNvGrpSpPr/>
          <p:nvPr/>
        </p:nvGrpSpPr>
        <p:grpSpPr>
          <a:xfrm>
            <a:off x="1042920" y="2205000"/>
            <a:ext cx="6933960" cy="1041840"/>
            <a:chOff x="1042920" y="2205000"/>
            <a:chExt cx="6933960" cy="1041840"/>
          </a:xfrm>
        </p:grpSpPr>
        <p:sp>
          <p:nvSpPr>
            <p:cNvPr id="313" name="Text Box 114"/>
            <p:cNvSpPr/>
            <p:nvPr/>
          </p:nvSpPr>
          <p:spPr>
            <a:xfrm>
              <a:off x="1042920" y="2357280"/>
              <a:ext cx="693396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5.</a:t>
              </a: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凸</a:t>
              </a:r>
              <a:r>
                <a:rPr b="0" lang="en-US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n</a:t>
              </a:r>
              <a:r>
                <a:rPr b="0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边形对角线条数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115"/>
            <p:cNvGrpSpPr/>
            <p:nvPr/>
          </p:nvGrpSpPr>
          <p:grpSpPr>
            <a:xfrm>
              <a:off x="5690880" y="2205000"/>
              <a:ext cx="1447920" cy="1041840"/>
              <a:chOff x="5690880" y="2205000"/>
              <a:chExt cx="1447920" cy="1041840"/>
            </a:xfrm>
          </p:grpSpPr>
          <p:sp>
            <p:nvSpPr>
              <p:cNvPr id="315" name="Text Box 116"/>
              <p:cNvSpPr/>
              <p:nvPr/>
            </p:nvSpPr>
            <p:spPr>
              <a:xfrm>
                <a:off x="5883840" y="2205000"/>
                <a:ext cx="1200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n(n-3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117"/>
              <p:cNvSpPr/>
              <p:nvPr/>
            </p:nvSpPr>
            <p:spPr>
              <a:xfrm>
                <a:off x="5690880" y="2738520"/>
                <a:ext cx="1447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18"/>
              <p:cNvSpPr/>
              <p:nvPr/>
            </p:nvSpPr>
            <p:spPr>
              <a:xfrm>
                <a:off x="6262920" y="2665440"/>
                <a:ext cx="386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10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4"/>
          <p:cNvSpPr/>
          <p:nvPr/>
        </p:nvSpPr>
        <p:spPr>
          <a:xfrm>
            <a:off x="250920" y="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如图，从五边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CD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一个顶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出发，顺次间隔连接五边形的各顶点，得到的是一个什么样的图形？请动手试一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1"/>
          <p:cNvGrpSpPr/>
          <p:nvPr/>
        </p:nvGrpSpPr>
        <p:grpSpPr>
          <a:xfrm>
            <a:off x="5516640" y="1397160"/>
            <a:ext cx="2951280" cy="2889000"/>
            <a:chOff x="5516640" y="1397160"/>
            <a:chExt cx="2951280" cy="2889000"/>
          </a:xfrm>
        </p:grpSpPr>
        <p:sp>
          <p:nvSpPr>
            <p:cNvPr id="320" name="AutoShape 5"/>
            <p:cNvSpPr/>
            <p:nvPr/>
          </p:nvSpPr>
          <p:spPr>
            <a:xfrm>
              <a:off x="5879880" y="1844640"/>
              <a:ext cx="2304720" cy="2160000"/>
            </a:xfrm>
            <a:prstGeom prst="pentag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6"/>
            <p:cNvSpPr/>
            <p:nvPr/>
          </p:nvSpPr>
          <p:spPr>
            <a:xfrm>
              <a:off x="6869880" y="13971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7"/>
            <p:cNvSpPr/>
            <p:nvPr/>
          </p:nvSpPr>
          <p:spPr>
            <a:xfrm>
              <a:off x="5516640" y="2420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8"/>
            <p:cNvSpPr/>
            <p:nvPr/>
          </p:nvSpPr>
          <p:spPr>
            <a:xfrm>
              <a:off x="6012360" y="391788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9"/>
            <p:cNvSpPr/>
            <p:nvPr/>
          </p:nvSpPr>
          <p:spPr>
            <a:xfrm>
              <a:off x="7730640" y="3860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0"/>
            <p:cNvSpPr/>
            <p:nvPr/>
          </p:nvSpPr>
          <p:spPr>
            <a:xfrm>
              <a:off x="8175960" y="2420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Line 13"/>
          <p:cNvSpPr/>
          <p:nvPr/>
        </p:nvSpPr>
        <p:spPr>
          <a:xfrm>
            <a:off x="7020000" y="1828800"/>
            <a:ext cx="720720" cy="223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 flipH="1">
            <a:off x="6300720" y="1844640"/>
            <a:ext cx="719280" cy="216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5867280" y="2708280"/>
            <a:ext cx="187344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5867280" y="2708280"/>
            <a:ext cx="230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 flipV="1">
            <a:off x="6300720" y="2707920"/>
            <a:ext cx="1871640" cy="129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21"/>
          <p:cNvGrpSpPr/>
          <p:nvPr/>
        </p:nvGrpSpPr>
        <p:grpSpPr>
          <a:xfrm>
            <a:off x="991800" y="1484280"/>
            <a:ext cx="3120480" cy="2873520"/>
            <a:chOff x="991800" y="1484280"/>
            <a:chExt cx="3120480" cy="2873520"/>
          </a:xfrm>
        </p:grpSpPr>
        <p:sp>
          <p:nvSpPr>
            <p:cNvPr id="332" name="AutoShape 22"/>
            <p:cNvSpPr/>
            <p:nvPr/>
          </p:nvSpPr>
          <p:spPr>
            <a:xfrm>
              <a:off x="1347480" y="1929240"/>
              <a:ext cx="2451600" cy="2146680"/>
            </a:xfrm>
            <a:prstGeom prst="pentagon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432160" y="14842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4"/>
            <p:cNvSpPr/>
            <p:nvPr/>
          </p:nvSpPr>
          <p:spPr>
            <a:xfrm>
              <a:off x="991800" y="250164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>
              <a:off x="1520640" y="398952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6"/>
            <p:cNvSpPr/>
            <p:nvPr/>
          </p:nvSpPr>
          <p:spPr>
            <a:xfrm>
              <a:off x="3348360" y="39326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27"/>
            <p:cNvSpPr/>
            <p:nvPr/>
          </p:nvSpPr>
          <p:spPr>
            <a:xfrm>
              <a:off x="3820320" y="2501640"/>
              <a:ext cx="29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28"/>
          <p:cNvSpPr/>
          <p:nvPr/>
        </p:nvSpPr>
        <p:spPr>
          <a:xfrm>
            <a:off x="254160" y="386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054520" y="4365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此题的关键是要审清题意，顺次间隔连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468360" y="479736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五边形的各顶点，按照题意，动手试试，马上就能解决问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2675520" y="5950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解：得到的是一个五角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732720" y="5964120"/>
            <a:ext cx="2016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例题讲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0"/>
          <p:cNvSpPr/>
          <p:nvPr/>
        </p:nvSpPr>
        <p:spPr>
          <a:xfrm>
            <a:off x="6410160" y="496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1"/>
          <p:cNvSpPr/>
          <p:nvPr/>
        </p:nvSpPr>
        <p:spPr>
          <a:xfrm>
            <a:off x="5978520" y="223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7597800" y="2211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3"/>
          <p:cNvSpPr/>
          <p:nvPr/>
        </p:nvSpPr>
        <p:spPr>
          <a:xfrm>
            <a:off x="8029440" y="1058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5"/>
          <p:cNvGrpSpPr/>
          <p:nvPr/>
        </p:nvGrpSpPr>
        <p:grpSpPr>
          <a:xfrm>
            <a:off x="6372360" y="915840"/>
            <a:ext cx="1872720" cy="1369800"/>
            <a:chOff x="6372360" y="915840"/>
            <a:chExt cx="1872720" cy="1369800"/>
          </a:xfrm>
        </p:grpSpPr>
        <p:sp>
          <p:nvSpPr>
            <p:cNvPr id="348" name="Line 16"/>
            <p:cNvSpPr/>
            <p:nvPr/>
          </p:nvSpPr>
          <p:spPr>
            <a:xfrm>
              <a:off x="6372360" y="915840"/>
              <a:ext cx="1872720" cy="738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7"/>
            <p:cNvSpPr/>
            <p:nvPr/>
          </p:nvSpPr>
          <p:spPr>
            <a:xfrm>
              <a:off x="6372360" y="915840"/>
              <a:ext cx="0" cy="1369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8"/>
            <p:cNvSpPr/>
            <p:nvPr/>
          </p:nvSpPr>
          <p:spPr>
            <a:xfrm>
              <a:off x="6372360" y="2285640"/>
              <a:ext cx="12884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9"/>
            <p:cNvSpPr/>
            <p:nvPr/>
          </p:nvSpPr>
          <p:spPr>
            <a:xfrm flipV="1">
              <a:off x="7660800" y="1653480"/>
              <a:ext cx="583920" cy="631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40"/>
          <p:cNvGrpSpPr/>
          <p:nvPr/>
        </p:nvGrpSpPr>
        <p:grpSpPr>
          <a:xfrm>
            <a:off x="5940360" y="3184560"/>
            <a:ext cx="2448000" cy="2773440"/>
            <a:chOff x="5940360" y="3184560"/>
            <a:chExt cx="2448000" cy="2773440"/>
          </a:xfrm>
        </p:grpSpPr>
        <p:sp>
          <p:nvSpPr>
            <p:cNvPr id="353" name="Line 20"/>
            <p:cNvSpPr/>
            <p:nvPr/>
          </p:nvSpPr>
          <p:spPr>
            <a:xfrm flipH="1">
              <a:off x="6084720" y="3645000"/>
              <a:ext cx="1151280" cy="2016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1"/>
            <p:cNvSpPr/>
            <p:nvPr/>
          </p:nvSpPr>
          <p:spPr>
            <a:xfrm>
              <a:off x="7236000" y="3645000"/>
              <a:ext cx="1008000" cy="1800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2"/>
            <p:cNvSpPr/>
            <p:nvPr/>
          </p:nvSpPr>
          <p:spPr>
            <a:xfrm flipH="1" flipV="1">
              <a:off x="7164000" y="5084280"/>
              <a:ext cx="107964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24"/>
            <p:cNvSpPr/>
            <p:nvPr/>
          </p:nvSpPr>
          <p:spPr>
            <a:xfrm flipH="1">
              <a:off x="6084360" y="5084640"/>
              <a:ext cx="1079640" cy="576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5"/>
            <p:cNvSpPr/>
            <p:nvPr/>
          </p:nvSpPr>
          <p:spPr>
            <a:xfrm>
              <a:off x="6838920" y="318456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26"/>
            <p:cNvSpPr/>
            <p:nvPr/>
          </p:nvSpPr>
          <p:spPr>
            <a:xfrm>
              <a:off x="5940360" y="5589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27"/>
            <p:cNvSpPr/>
            <p:nvPr/>
          </p:nvSpPr>
          <p:spPr>
            <a:xfrm>
              <a:off x="694836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8"/>
            <p:cNvSpPr/>
            <p:nvPr/>
          </p:nvSpPr>
          <p:spPr>
            <a:xfrm>
              <a:off x="7885080" y="5373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 Box 29"/>
          <p:cNvSpPr/>
          <p:nvPr/>
        </p:nvSpPr>
        <p:spPr>
          <a:xfrm>
            <a:off x="6626160" y="2384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6877080" y="5445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1"/>
          <p:cNvSpPr/>
          <p:nvPr/>
        </p:nvSpPr>
        <p:spPr>
          <a:xfrm>
            <a:off x="6410160" y="655560"/>
            <a:ext cx="0" cy="194472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940360" y="2284560"/>
            <a:ext cx="230364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3"/>
          <p:cNvSpPr/>
          <p:nvPr/>
        </p:nvSpPr>
        <p:spPr>
          <a:xfrm flipH="1">
            <a:off x="7273800" y="1131840"/>
            <a:ext cx="1440000" cy="161136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6084720" y="771480"/>
            <a:ext cx="2448000" cy="100800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6"/>
          <p:cNvSpPr/>
          <p:nvPr/>
        </p:nvSpPr>
        <p:spPr>
          <a:xfrm>
            <a:off x="6156360" y="4724280"/>
            <a:ext cx="2736720" cy="93672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324000" y="292428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图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多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不在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所在直线的同侧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就不是凸多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叫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凹多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250920" y="981000"/>
            <a:ext cx="579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在图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中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画出任意一边所在的直线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整个多边形都在直线的同侧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这样的多边形叫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凸多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324000" y="4941720"/>
            <a:ext cx="50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没有特别说明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我们研究的多边形都是指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凸多边形</a:t>
            </a:r>
            <a:r>
              <a:rPr b="1" lang="en-US" sz="3200" spc="-1" strike="noStrike">
                <a:solidFill>
                  <a:srgbClr val="d60093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287964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边形的分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AutoShape 7"/>
          <p:cNvSpPr/>
          <p:nvPr/>
        </p:nvSpPr>
        <p:spPr>
          <a:xfrm>
            <a:off x="611280" y="1884240"/>
            <a:ext cx="1368360" cy="118440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195640" y="1916280"/>
            <a:ext cx="1224000" cy="122364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9"/>
          <p:cNvSpPr/>
          <p:nvPr/>
        </p:nvSpPr>
        <p:spPr>
          <a:xfrm>
            <a:off x="3635280" y="1700280"/>
            <a:ext cx="1440000" cy="1368360"/>
          </a:xfrm>
          <a:prstGeom prst="pentagon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5292720" y="1773360"/>
            <a:ext cx="1441440" cy="1245960"/>
          </a:xfrm>
          <a:prstGeom prst="hexagon">
            <a:avLst>
              <a:gd name="adj" fmla="val 28922"/>
              <a:gd name="vf" fmla="val 115470"/>
            </a:avLst>
          </a:prstGeom>
          <a:solidFill>
            <a:srgbClr val="4f81b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1"/>
          <p:cNvSpPr/>
          <p:nvPr/>
        </p:nvSpPr>
        <p:spPr>
          <a:xfrm>
            <a:off x="6948360" y="1700280"/>
            <a:ext cx="1368720" cy="1368360"/>
          </a:xfrm>
          <a:prstGeom prst="octagon">
            <a:avLst>
              <a:gd name="adj" fmla="val 29287"/>
            </a:avLst>
          </a:prstGeom>
          <a:solidFill>
            <a:srgbClr val="ff66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250920" y="47628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观察图中的多边形，他们的边、角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684360" y="515772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在平面内，各个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角都相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各条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边都相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的多边形叫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正多边形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53820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2"/>
          <p:cNvSpPr/>
          <p:nvPr/>
        </p:nvSpPr>
        <p:spPr>
          <a:xfrm>
            <a:off x="2195640" y="3357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3"/>
          <p:cNvSpPr/>
          <p:nvPr/>
        </p:nvSpPr>
        <p:spPr>
          <a:xfrm>
            <a:off x="356400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五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5146560" y="33321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六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5"/>
          <p:cNvSpPr/>
          <p:nvPr/>
        </p:nvSpPr>
        <p:spPr>
          <a:xfrm>
            <a:off x="6875640" y="33577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正八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163760"/>
            <a:ext cx="317808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多边形的概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9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30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0"/>
                            </p:stCondLst>
                            <p:childTnLst>
                              <p:par>
                                <p:cTn id="68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8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500"/>
                            </p:stCondLst>
                            <p:childTnLst>
                              <p:par>
                                <p:cTn id="6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1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7500"/>
                            </p:stCondLst>
                            <p:childTnLst>
                              <p:par>
                                <p:cTn id="693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5"/>
          <p:cNvSpPr/>
          <p:nvPr/>
        </p:nvSpPr>
        <p:spPr>
          <a:xfrm>
            <a:off x="1479960" y="836640"/>
            <a:ext cx="581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Arial"/>
              </a:rPr>
              <a:t>时，必须同时满足以下两个条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1046520" y="1341360"/>
            <a:ext cx="25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）是各边相等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4154760" y="1341360"/>
            <a:ext cx="24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）是各角相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2411280" y="1844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两者缺一不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611280" y="234936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长方形各角相等，但各边不一定相等，菱形各边相等，但各角不一定相等，所以它们都不是正多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68403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判断一个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边形是正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n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边形的条件是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6948360" y="4052880"/>
            <a:ext cx="1224000" cy="2014560"/>
          </a:xfrm>
          <a:prstGeom prst="rect">
            <a:avLst/>
          </a:prstGeom>
          <a:solidFill>
            <a:srgbClr val="ff00ff">
              <a:alpha val="47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4356000" y="4221000"/>
            <a:ext cx="2232000" cy="1584360"/>
          </a:xfrm>
          <a:prstGeom prst="flowChartInputOutput">
            <a:avLst/>
          </a:prstGeom>
          <a:solidFill>
            <a:srgbClr val="ff00ff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4859280" y="46530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菱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7020000" y="47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矩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826920" y="4292640"/>
            <a:ext cx="1368720" cy="118440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2700360" y="4221000"/>
            <a:ext cx="1224000" cy="12240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468360" y="544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正三角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2556000" y="45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正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539640" y="765000"/>
            <a:ext cx="765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如图，在正方形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，你能用四种不同的方法把正方形面积四等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0"/>
          <p:cNvGrpSpPr/>
          <p:nvPr/>
        </p:nvGrpSpPr>
        <p:grpSpPr>
          <a:xfrm>
            <a:off x="6138360" y="1700280"/>
            <a:ext cx="2253240" cy="1966680"/>
            <a:chOff x="6138360" y="1700280"/>
            <a:chExt cx="2253240" cy="1966680"/>
          </a:xfrm>
        </p:grpSpPr>
        <p:sp>
          <p:nvSpPr>
            <p:cNvPr id="401" name="Rectangle 5"/>
            <p:cNvSpPr/>
            <p:nvPr/>
          </p:nvSpPr>
          <p:spPr>
            <a:xfrm>
              <a:off x="6516360" y="2003400"/>
              <a:ext cx="1511280" cy="1511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6"/>
            <p:cNvSpPr/>
            <p:nvPr/>
          </p:nvSpPr>
          <p:spPr>
            <a:xfrm>
              <a:off x="6138360" y="17715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6141960" y="3298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8"/>
            <p:cNvSpPr/>
            <p:nvPr/>
          </p:nvSpPr>
          <p:spPr>
            <a:xfrm>
              <a:off x="8088840" y="322740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9"/>
            <p:cNvSpPr/>
            <p:nvPr/>
          </p:nvSpPr>
          <p:spPr>
            <a:xfrm>
              <a:off x="8007120" y="17002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1"/>
          <p:cNvSpPr/>
          <p:nvPr/>
        </p:nvSpPr>
        <p:spPr>
          <a:xfrm>
            <a:off x="433440" y="17733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2"/>
          <p:cNvSpPr/>
          <p:nvPr/>
        </p:nvSpPr>
        <p:spPr>
          <a:xfrm>
            <a:off x="1258920" y="177336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正方形的面积问题一般可以转化为三角形问题，本题也可以直接把正方形四等分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3"/>
          <p:cNvSpPr/>
          <p:nvPr/>
        </p:nvSpPr>
        <p:spPr>
          <a:xfrm>
            <a:off x="829800" y="35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如图所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611280" y="4797360"/>
            <a:ext cx="129672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5148360" y="4795920"/>
            <a:ext cx="129672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6"/>
          <p:cNvSpPr/>
          <p:nvPr/>
        </p:nvSpPr>
        <p:spPr>
          <a:xfrm>
            <a:off x="3564000" y="4795920"/>
            <a:ext cx="129708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>
            <a:off x="2050920" y="4797360"/>
            <a:ext cx="129708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8"/>
          <p:cNvSpPr/>
          <p:nvPr/>
        </p:nvSpPr>
        <p:spPr>
          <a:xfrm>
            <a:off x="611280" y="4797360"/>
            <a:ext cx="129672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9"/>
          <p:cNvSpPr/>
          <p:nvPr/>
        </p:nvSpPr>
        <p:spPr>
          <a:xfrm>
            <a:off x="611280" y="4797360"/>
            <a:ext cx="64908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20"/>
          <p:cNvSpPr/>
          <p:nvPr/>
        </p:nvSpPr>
        <p:spPr>
          <a:xfrm flipH="1" flipV="1">
            <a:off x="1260000" y="4797000"/>
            <a:ext cx="64764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1"/>
          <p:cNvSpPr/>
          <p:nvPr/>
        </p:nvSpPr>
        <p:spPr>
          <a:xfrm>
            <a:off x="2050920" y="54450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2698920" y="47973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3"/>
          <p:cNvSpPr/>
          <p:nvPr/>
        </p:nvSpPr>
        <p:spPr>
          <a:xfrm>
            <a:off x="3564000" y="4797360"/>
            <a:ext cx="129528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 flipV="1">
            <a:off x="3564000" y="4797000"/>
            <a:ext cx="129528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5148360" y="4797360"/>
            <a:ext cx="129672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"/>
          <p:cNvSpPr/>
          <p:nvPr/>
        </p:nvSpPr>
        <p:spPr>
          <a:xfrm>
            <a:off x="5148360" y="4797360"/>
            <a:ext cx="64908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7"/>
          <p:cNvSpPr/>
          <p:nvPr/>
        </p:nvSpPr>
        <p:spPr>
          <a:xfrm flipH="1">
            <a:off x="5797080" y="4797360"/>
            <a:ext cx="647640" cy="647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8"/>
          <p:cNvSpPr/>
          <p:nvPr/>
        </p:nvSpPr>
        <p:spPr>
          <a:xfrm>
            <a:off x="6588000" y="4797360"/>
            <a:ext cx="1297080" cy="129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29"/>
          <p:cNvSpPr/>
          <p:nvPr/>
        </p:nvSpPr>
        <p:spPr>
          <a:xfrm>
            <a:off x="7236000" y="47973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0"/>
          <p:cNvSpPr/>
          <p:nvPr/>
        </p:nvSpPr>
        <p:spPr>
          <a:xfrm>
            <a:off x="6877080" y="47973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1"/>
          <p:cNvSpPr/>
          <p:nvPr/>
        </p:nvSpPr>
        <p:spPr>
          <a:xfrm>
            <a:off x="7596360" y="479736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rc 33"/>
          <p:cNvSpPr/>
          <p:nvPr/>
        </p:nvSpPr>
        <p:spPr>
          <a:xfrm>
            <a:off x="7164360" y="2781360"/>
            <a:ext cx="360360" cy="720720"/>
          </a:xfrm>
          <a:custGeom>
            <a:avLst/>
            <a:gdLst>
              <a:gd name="textAreaLeft" fmla="*/ 0 w 360360"/>
              <a:gd name="textAreaRight" fmla="*/ 360720 w 360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</a:path>
              <a:path stroke="0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rc 34"/>
          <p:cNvSpPr/>
          <p:nvPr/>
        </p:nvSpPr>
        <p:spPr>
          <a:xfrm flipH="1">
            <a:off x="6876360" y="1989000"/>
            <a:ext cx="358920" cy="792360"/>
          </a:xfrm>
          <a:custGeom>
            <a:avLst/>
            <a:gdLst>
              <a:gd name="textAreaLeft" fmla="*/ -360 w 358920"/>
              <a:gd name="textAreaRight" fmla="*/ 358920 w 3589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fill="none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</a:path>
              <a:path stroke="0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rc 35"/>
          <p:cNvSpPr/>
          <p:nvPr/>
        </p:nvSpPr>
        <p:spPr>
          <a:xfrm rot="5400000">
            <a:off x="6696720" y="2601000"/>
            <a:ext cx="360360" cy="720720"/>
          </a:xfrm>
          <a:custGeom>
            <a:avLst/>
            <a:gdLst>
              <a:gd name="textAreaLeft" fmla="*/ 0 w 360360"/>
              <a:gd name="textAreaRight" fmla="*/ 360720 w 360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</a:path>
              <a:path stroke="0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rc 36"/>
          <p:cNvSpPr/>
          <p:nvPr/>
        </p:nvSpPr>
        <p:spPr>
          <a:xfrm rot="16200000">
            <a:off x="7451640" y="2204640"/>
            <a:ext cx="360360" cy="792000"/>
          </a:xfrm>
          <a:custGeom>
            <a:avLst/>
            <a:gdLst>
              <a:gd name="textAreaLeft" fmla="*/ 0 w 360360"/>
              <a:gd name="textAreaRight" fmla="*/ 360720 w 360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fill="none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</a:path>
              <a:path stroke="0" w="21600" h="43182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3187"/>
                  <a:pt x="12456" y="42710"/>
                  <a:pt x="879" y="43182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202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例题讲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33"/>
          <p:cNvSpPr/>
          <p:nvPr/>
        </p:nvSpPr>
        <p:spPr>
          <a:xfrm>
            <a:off x="611280" y="148428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如图，此多边形应记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边形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边的邻边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顶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处的内角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过顶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画出这个多边形的对角线，共有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条，它们把多边形分成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三角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5651640" y="148428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755640" y="1916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ABC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971640" y="24922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5580000" y="1989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6516720" y="242100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∠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A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1403280" y="3357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7164360" y="342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9" descr="纸袋"/>
          <p:cNvPicPr/>
          <p:nvPr/>
        </p:nvPicPr>
        <p:blipFill>
          <a:blip r:embed="rId1"/>
          <a:stretch/>
        </p:blipFill>
        <p:spPr>
          <a:xfrm>
            <a:off x="5076720" y="4005360"/>
            <a:ext cx="2303640" cy="2187360"/>
          </a:xfrm>
          <a:prstGeom prst="rect">
            <a:avLst/>
          </a:prstGeom>
          <a:ln w="0">
            <a:noFill/>
          </a:ln>
        </p:spPr>
      </p:pic>
      <p:sp>
        <p:nvSpPr>
          <p:cNvPr id="441" name="Line 30"/>
          <p:cNvSpPr/>
          <p:nvPr/>
        </p:nvSpPr>
        <p:spPr>
          <a:xfrm flipV="1">
            <a:off x="5329080" y="4653000"/>
            <a:ext cx="1729080" cy="171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1"/>
          <p:cNvSpPr/>
          <p:nvPr/>
        </p:nvSpPr>
        <p:spPr>
          <a:xfrm>
            <a:off x="5400720" y="4797360"/>
            <a:ext cx="1728720" cy="9795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224316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0"/>
          <p:cNvSpPr/>
          <p:nvPr/>
        </p:nvSpPr>
        <p:spPr>
          <a:xfrm>
            <a:off x="1786680" y="5300640"/>
            <a:ext cx="59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多边形分为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两类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21"/>
          <p:cNvSpPr/>
          <p:nvPr/>
        </p:nvSpPr>
        <p:spPr>
          <a:xfrm>
            <a:off x="2031120" y="4437000"/>
            <a:ext cx="40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正多边形的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相等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8"/>
          <p:cNvSpPr/>
          <p:nvPr/>
        </p:nvSpPr>
        <p:spPr>
          <a:xfrm>
            <a:off x="179280" y="328464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从五边形的一个顶点出发可以画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条对角线，它们将五边形分成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9"/>
          <p:cNvSpPr/>
          <p:nvPr/>
        </p:nvSpPr>
        <p:spPr>
          <a:xfrm>
            <a:off x="250920" y="177336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四边形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条对角线。五边形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条对角线。四边形的一条对角线将它分成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三角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468360" y="620640"/>
            <a:ext cx="842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边形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顶点，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边，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角，有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个不共顶点外角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651640" y="476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3059280" y="476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627280" y="1125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7667640" y="476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"/>
          <p:cNvSpPr/>
          <p:nvPr/>
        </p:nvSpPr>
        <p:spPr>
          <a:xfrm>
            <a:off x="2843280" y="17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7596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1"/>
          <p:cNvSpPr/>
          <p:nvPr/>
        </p:nvSpPr>
        <p:spPr>
          <a:xfrm>
            <a:off x="7020000" y="3284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2"/>
          <p:cNvSpPr/>
          <p:nvPr/>
        </p:nvSpPr>
        <p:spPr>
          <a:xfrm>
            <a:off x="4643280" y="378936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759636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5580000" y="436572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3564000" y="450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3348000" y="5300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凸多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5796000" y="522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凹多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2027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课堂练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468360" y="620640"/>
            <a:ext cx="78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、把一个五边形锯去一个内角后得到是什么图形？请画图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684360" y="2421000"/>
            <a:ext cx="2879640" cy="936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6"/>
          <p:cNvSpPr/>
          <p:nvPr/>
        </p:nvSpPr>
        <p:spPr>
          <a:xfrm>
            <a:off x="2987640" y="3500280"/>
            <a:ext cx="2879640" cy="936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7"/>
          <p:cNvSpPr/>
          <p:nvPr/>
        </p:nvSpPr>
        <p:spPr>
          <a:xfrm>
            <a:off x="5148360" y="2349360"/>
            <a:ext cx="2879640" cy="936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2771640" y="2421000"/>
            <a:ext cx="86364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9"/>
          <p:cNvSpPr/>
          <p:nvPr/>
        </p:nvSpPr>
        <p:spPr>
          <a:xfrm>
            <a:off x="6156360" y="2060640"/>
            <a:ext cx="180036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1"/>
          <p:cNvSpPr/>
          <p:nvPr/>
        </p:nvSpPr>
        <p:spPr>
          <a:xfrm>
            <a:off x="4211640" y="3284640"/>
            <a:ext cx="129708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1754280" y="340056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中宋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6400080" y="3284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4239360" y="450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39640" y="5013360"/>
            <a:ext cx="81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五边形锯去一个内角后得到的图形可能是六边形，如图①；五边形，如图②；四边形，如图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593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拓展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24000" y="549360"/>
            <a:ext cx="842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观察生活中大量的图片，认识一些简单的几何体（四边形、五边形），了解多边形及其内角，对角线等数学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能由实物中辨别寻找出几何体，由几何体图形联想或设计一些实物形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了解类比的数学学习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170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179280" y="400536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重点与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重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了解多边形、内角、外角、对角线的概念以及凸多边形的形状的辨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难点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正多边形的正确理解以及凸多边形的辨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826920" y="692280"/>
            <a:ext cx="55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1441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1555200" y="47628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多边形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4431960" y="981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在平面内，由一些线段首尾顺次相接组成的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1627200" y="155736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多边形的内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1394280" y="21337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多边形相邻两边组成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1698840" y="270828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多边形的外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4251960" y="3357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多边形的一边与它相邻边的延长线组成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1977480" y="393372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多边形的对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2030760" y="46530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连接多边形不相邻的两个顶点的线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1431000" y="5373720"/>
            <a:ext cx="6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正多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2462760" y="599292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各个角相等，各条边都相等的多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626920" y="134100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祝同学们学习进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3276720" y="2924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再见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"/>
          <p:cNvPicPr/>
          <p:nvPr/>
        </p:nvPicPr>
        <p:blipFill>
          <a:blip r:embed="rId1"/>
          <a:srcRect l="23001" t="9819" r="21308" b="17325"/>
          <a:stretch/>
        </p:blipFill>
        <p:spPr>
          <a:xfrm>
            <a:off x="611280" y="1247760"/>
            <a:ext cx="2232000" cy="203688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2"/>
          <p:cNvGrpSpPr/>
          <p:nvPr/>
        </p:nvGrpSpPr>
        <p:grpSpPr>
          <a:xfrm>
            <a:off x="755280" y="1390680"/>
            <a:ext cx="1872000" cy="1657440"/>
            <a:chOff x="755280" y="1390680"/>
            <a:chExt cx="1872000" cy="1657440"/>
          </a:xfrm>
        </p:grpSpPr>
        <p:sp>
          <p:nvSpPr>
            <p:cNvPr id="47" name="Line 11"/>
            <p:cNvSpPr/>
            <p:nvPr/>
          </p:nvSpPr>
          <p:spPr>
            <a:xfrm flipH="1">
              <a:off x="755280" y="1463760"/>
              <a:ext cx="934920" cy="158436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2"/>
            <p:cNvSpPr/>
            <p:nvPr/>
          </p:nvSpPr>
          <p:spPr>
            <a:xfrm>
              <a:off x="1690560" y="1390680"/>
              <a:ext cx="936720" cy="165744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3"/>
            <p:cNvSpPr/>
            <p:nvPr/>
          </p:nvSpPr>
          <p:spPr>
            <a:xfrm>
              <a:off x="755640" y="3048120"/>
              <a:ext cx="18716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0" name="Object 5"/>
          <p:cNvGraphicFramePr/>
          <p:nvPr/>
        </p:nvGraphicFramePr>
        <p:xfrm>
          <a:off x="2916360" y="1268280"/>
          <a:ext cx="2305080" cy="20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268280"/>
                    <a:ext cx="23050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4"/>
          <p:cNvGrpSpPr/>
          <p:nvPr/>
        </p:nvGrpSpPr>
        <p:grpSpPr>
          <a:xfrm>
            <a:off x="4067280" y="1844640"/>
            <a:ext cx="1009440" cy="647640"/>
            <a:chOff x="4067280" y="1844640"/>
            <a:chExt cx="1009440" cy="647640"/>
          </a:xfrm>
        </p:grpSpPr>
        <p:sp>
          <p:nvSpPr>
            <p:cNvPr id="53" name="Line 14"/>
            <p:cNvSpPr/>
            <p:nvPr/>
          </p:nvSpPr>
          <p:spPr>
            <a:xfrm>
              <a:off x="4067280" y="1844640"/>
              <a:ext cx="0" cy="647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5"/>
            <p:cNvSpPr/>
            <p:nvPr/>
          </p:nvSpPr>
          <p:spPr>
            <a:xfrm>
              <a:off x="4067280" y="1844640"/>
              <a:ext cx="100944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6"/>
            <p:cNvSpPr/>
            <p:nvPr/>
          </p:nvSpPr>
          <p:spPr>
            <a:xfrm>
              <a:off x="4067280" y="2492280"/>
              <a:ext cx="100944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7"/>
            <p:cNvSpPr/>
            <p:nvPr/>
          </p:nvSpPr>
          <p:spPr>
            <a:xfrm>
              <a:off x="5076720" y="1844640"/>
              <a:ext cx="0" cy="64764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6" descr="b009"/>
          <p:cNvPicPr/>
          <p:nvPr/>
        </p:nvPicPr>
        <p:blipFill>
          <a:blip r:embed="rId4"/>
          <a:stretch/>
        </p:blipFill>
        <p:spPr>
          <a:xfrm>
            <a:off x="5580000" y="1268280"/>
            <a:ext cx="28958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6"/>
          <p:cNvGrpSpPr/>
          <p:nvPr/>
        </p:nvGrpSpPr>
        <p:grpSpPr>
          <a:xfrm>
            <a:off x="6156360" y="1411200"/>
            <a:ext cx="1150920" cy="936720"/>
            <a:chOff x="6156360" y="1411200"/>
            <a:chExt cx="1150920" cy="936720"/>
          </a:xfrm>
        </p:grpSpPr>
        <p:sp>
          <p:nvSpPr>
            <p:cNvPr id="59" name="Line 18"/>
            <p:cNvSpPr/>
            <p:nvPr/>
          </p:nvSpPr>
          <p:spPr>
            <a:xfrm>
              <a:off x="6156360" y="1411200"/>
              <a:ext cx="1150920" cy="504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>
              <a:off x="6156360" y="1411200"/>
              <a:ext cx="0" cy="936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>
              <a:off x="6156360" y="2347920"/>
              <a:ext cx="7920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 flipV="1">
              <a:off x="6948360" y="1915920"/>
              <a:ext cx="358920" cy="432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" name="Object 8"/>
          <p:cNvGraphicFramePr/>
          <p:nvPr/>
        </p:nvGraphicFramePr>
        <p:xfrm>
          <a:off x="2627280" y="3933720"/>
          <a:ext cx="2664000" cy="237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933720"/>
                    <a:ext cx="26640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" name="Group 48"/>
          <p:cNvGrpSpPr/>
          <p:nvPr/>
        </p:nvGrpSpPr>
        <p:grpSpPr>
          <a:xfrm>
            <a:off x="3489480" y="4776840"/>
            <a:ext cx="865080" cy="1350720"/>
            <a:chOff x="3489480" y="4776840"/>
            <a:chExt cx="865080" cy="1350720"/>
          </a:xfrm>
        </p:grpSpPr>
        <p:sp>
          <p:nvSpPr>
            <p:cNvPr id="66" name="Line 23"/>
            <p:cNvSpPr/>
            <p:nvPr/>
          </p:nvSpPr>
          <p:spPr>
            <a:xfrm flipH="1">
              <a:off x="3489480" y="4776840"/>
              <a:ext cx="432000" cy="3607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4"/>
            <p:cNvSpPr/>
            <p:nvPr/>
          </p:nvSpPr>
          <p:spPr>
            <a:xfrm>
              <a:off x="3489480" y="5137560"/>
              <a:ext cx="0" cy="628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5"/>
            <p:cNvSpPr/>
            <p:nvPr/>
          </p:nvSpPr>
          <p:spPr>
            <a:xfrm>
              <a:off x="3489480" y="5766480"/>
              <a:ext cx="432000" cy="36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6"/>
            <p:cNvSpPr/>
            <p:nvPr/>
          </p:nvSpPr>
          <p:spPr>
            <a:xfrm flipV="1">
              <a:off x="3921480" y="5766120"/>
              <a:ext cx="433080" cy="3610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7"/>
            <p:cNvSpPr/>
            <p:nvPr/>
          </p:nvSpPr>
          <p:spPr>
            <a:xfrm>
              <a:off x="4354560" y="5046120"/>
              <a:ext cx="0" cy="720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8"/>
            <p:cNvSpPr/>
            <p:nvPr/>
          </p:nvSpPr>
          <p:spPr>
            <a:xfrm flipH="1" flipV="1">
              <a:off x="3849840" y="4776840"/>
              <a:ext cx="504720" cy="2692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2" name="Object 7"/>
          <p:cNvGraphicFramePr/>
          <p:nvPr/>
        </p:nvGraphicFramePr>
        <p:xfrm>
          <a:off x="5435640" y="3573360"/>
          <a:ext cx="3024000" cy="288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35640" y="3573360"/>
                    <a:ext cx="3024000" cy="28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" name="Group 50"/>
          <p:cNvGrpSpPr/>
          <p:nvPr/>
        </p:nvGrpSpPr>
        <p:grpSpPr>
          <a:xfrm>
            <a:off x="6840360" y="3646440"/>
            <a:ext cx="431640" cy="432000"/>
            <a:chOff x="6840360" y="3646440"/>
            <a:chExt cx="431640" cy="432000"/>
          </a:xfrm>
        </p:grpSpPr>
        <p:sp>
          <p:nvSpPr>
            <p:cNvPr id="75" name="Line 29"/>
            <p:cNvSpPr/>
            <p:nvPr/>
          </p:nvSpPr>
          <p:spPr>
            <a:xfrm flipH="1">
              <a:off x="6840360" y="3646440"/>
              <a:ext cx="216000" cy="2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0"/>
            <p:cNvSpPr/>
            <p:nvPr/>
          </p:nvSpPr>
          <p:spPr>
            <a:xfrm>
              <a:off x="7056360" y="3646440"/>
              <a:ext cx="215640" cy="2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1"/>
            <p:cNvSpPr/>
            <p:nvPr/>
          </p:nvSpPr>
          <p:spPr>
            <a:xfrm>
              <a:off x="6840360" y="3862440"/>
              <a:ext cx="216000" cy="2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 flipV="1">
              <a:off x="7056360" y="3862440"/>
              <a:ext cx="215640" cy="2160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51"/>
          <p:cNvGrpSpPr/>
          <p:nvPr/>
        </p:nvGrpSpPr>
        <p:grpSpPr>
          <a:xfrm>
            <a:off x="5472000" y="3933360"/>
            <a:ext cx="1512720" cy="1153080"/>
            <a:chOff x="5472000" y="3933360"/>
            <a:chExt cx="1512720" cy="1153080"/>
          </a:xfrm>
        </p:grpSpPr>
        <p:sp>
          <p:nvSpPr>
            <p:cNvPr id="80" name="Line 34"/>
            <p:cNvSpPr/>
            <p:nvPr/>
          </p:nvSpPr>
          <p:spPr>
            <a:xfrm flipH="1">
              <a:off x="5472000" y="3933720"/>
              <a:ext cx="288720" cy="3603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"/>
            <p:cNvSpPr/>
            <p:nvPr/>
          </p:nvSpPr>
          <p:spPr>
            <a:xfrm>
              <a:off x="5472000" y="4294080"/>
              <a:ext cx="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6"/>
            <p:cNvSpPr/>
            <p:nvPr/>
          </p:nvSpPr>
          <p:spPr>
            <a:xfrm>
              <a:off x="5472000" y="4797360"/>
              <a:ext cx="288720" cy="289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7"/>
            <p:cNvSpPr/>
            <p:nvPr/>
          </p:nvSpPr>
          <p:spPr>
            <a:xfrm>
              <a:off x="5760720" y="5086440"/>
              <a:ext cx="9352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 flipV="1">
              <a:off x="6696000" y="4797000"/>
              <a:ext cx="288720" cy="289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V="1">
              <a:off x="6984720" y="4294080"/>
              <a:ext cx="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H="1" flipV="1">
              <a:off x="6696000" y="3933360"/>
              <a:ext cx="288720" cy="3603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1"/>
            <p:cNvSpPr/>
            <p:nvPr/>
          </p:nvSpPr>
          <p:spPr>
            <a:xfrm flipH="1">
              <a:off x="5760720" y="3933720"/>
              <a:ext cx="93528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53" descr="http://www.pep.com.cn/images/200410/pic_123391.jpg"/>
          <p:cNvPicPr/>
          <p:nvPr/>
        </p:nvPicPr>
        <p:blipFill>
          <a:blip r:embed="rId9"/>
          <a:srcRect l="13746" t="34259" r="67730" b="50332"/>
          <a:stretch/>
        </p:blipFill>
        <p:spPr>
          <a:xfrm>
            <a:off x="539640" y="4076640"/>
            <a:ext cx="1873440" cy="216072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69"/>
          <p:cNvGrpSpPr/>
          <p:nvPr/>
        </p:nvGrpSpPr>
        <p:grpSpPr>
          <a:xfrm>
            <a:off x="1332000" y="5230440"/>
            <a:ext cx="360360" cy="359280"/>
            <a:chOff x="1332000" y="5230440"/>
            <a:chExt cx="360360" cy="359280"/>
          </a:xfrm>
        </p:grpSpPr>
        <p:sp>
          <p:nvSpPr>
            <p:cNvPr id="90" name="Line 54"/>
            <p:cNvSpPr/>
            <p:nvPr/>
          </p:nvSpPr>
          <p:spPr>
            <a:xfrm>
              <a:off x="1332000" y="5230800"/>
              <a:ext cx="3603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5"/>
            <p:cNvSpPr/>
            <p:nvPr/>
          </p:nvSpPr>
          <p:spPr>
            <a:xfrm>
              <a:off x="1332000" y="5230800"/>
              <a:ext cx="0" cy="358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6"/>
            <p:cNvSpPr/>
            <p:nvPr/>
          </p:nvSpPr>
          <p:spPr>
            <a:xfrm>
              <a:off x="1332000" y="5589720"/>
              <a:ext cx="36036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7"/>
            <p:cNvSpPr/>
            <p:nvPr/>
          </p:nvSpPr>
          <p:spPr>
            <a:xfrm flipV="1">
              <a:off x="1692360" y="5230440"/>
              <a:ext cx="0" cy="3589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8"/>
          <p:cNvGrpSpPr/>
          <p:nvPr/>
        </p:nvGrpSpPr>
        <p:grpSpPr>
          <a:xfrm>
            <a:off x="755280" y="4220640"/>
            <a:ext cx="1440000" cy="1945080"/>
            <a:chOff x="755280" y="4220640"/>
            <a:chExt cx="1440000" cy="1945080"/>
          </a:xfrm>
        </p:grpSpPr>
        <p:sp>
          <p:nvSpPr>
            <p:cNvPr id="95" name="Line 58"/>
            <p:cNvSpPr/>
            <p:nvPr/>
          </p:nvSpPr>
          <p:spPr>
            <a:xfrm flipH="1">
              <a:off x="755280" y="4221000"/>
              <a:ext cx="718920" cy="718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>
              <a:off x="755640" y="4939920"/>
              <a:ext cx="0" cy="1225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>
              <a:off x="755640" y="6165720"/>
              <a:ext cx="143964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61"/>
            <p:cNvSpPr/>
            <p:nvPr/>
          </p:nvSpPr>
          <p:spPr>
            <a:xfrm flipV="1">
              <a:off x="2195280" y="4939560"/>
              <a:ext cx="0" cy="1225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62"/>
            <p:cNvSpPr/>
            <p:nvPr/>
          </p:nvSpPr>
          <p:spPr>
            <a:xfrm flipH="1" flipV="1">
              <a:off x="1474560" y="4220640"/>
              <a:ext cx="720720" cy="7189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67"/>
          <p:cNvGrpSpPr/>
          <p:nvPr/>
        </p:nvGrpSpPr>
        <p:grpSpPr>
          <a:xfrm>
            <a:off x="898560" y="4292640"/>
            <a:ext cx="144360" cy="504720"/>
            <a:chOff x="898560" y="4292640"/>
            <a:chExt cx="144360" cy="504720"/>
          </a:xfrm>
        </p:grpSpPr>
        <p:sp>
          <p:nvSpPr>
            <p:cNvPr id="101" name="Line 63"/>
            <p:cNvSpPr/>
            <p:nvPr/>
          </p:nvSpPr>
          <p:spPr>
            <a:xfrm>
              <a:off x="898560" y="4292640"/>
              <a:ext cx="144360" cy="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4"/>
            <p:cNvSpPr/>
            <p:nvPr/>
          </p:nvSpPr>
          <p:spPr>
            <a:xfrm>
              <a:off x="898560" y="4292640"/>
              <a:ext cx="0" cy="50472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5"/>
            <p:cNvSpPr/>
            <p:nvPr/>
          </p:nvSpPr>
          <p:spPr>
            <a:xfrm flipV="1">
              <a:off x="898560" y="4652640"/>
              <a:ext cx="144360" cy="1443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6"/>
            <p:cNvSpPr/>
            <p:nvPr/>
          </p:nvSpPr>
          <p:spPr>
            <a:xfrm>
              <a:off x="1042920" y="4292640"/>
              <a:ext cx="0" cy="3603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419040"/>
            <a:ext cx="7632720" cy="6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能从下列图形中找出一些平面图形吗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64803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你能说出上述平面图形的名称吗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8"/>
          <p:cNvGrpSpPr/>
          <p:nvPr/>
        </p:nvGrpSpPr>
        <p:grpSpPr>
          <a:xfrm>
            <a:off x="1836360" y="1125360"/>
            <a:ext cx="1872000" cy="1657440"/>
            <a:chOff x="1836360" y="1125360"/>
            <a:chExt cx="1872000" cy="1657440"/>
          </a:xfrm>
        </p:grpSpPr>
        <p:sp>
          <p:nvSpPr>
            <p:cNvPr id="108" name="Line 9"/>
            <p:cNvSpPr/>
            <p:nvPr/>
          </p:nvSpPr>
          <p:spPr>
            <a:xfrm flipH="1">
              <a:off x="1836360" y="1198440"/>
              <a:ext cx="934920" cy="1584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2771640" y="1125360"/>
              <a:ext cx="936720" cy="1657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>
              <a:off x="1836720" y="2782800"/>
              <a:ext cx="18716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2"/>
          <p:cNvGrpSpPr/>
          <p:nvPr/>
        </p:nvGrpSpPr>
        <p:grpSpPr>
          <a:xfrm>
            <a:off x="5148360" y="1347840"/>
            <a:ext cx="2088360" cy="1007640"/>
            <a:chOff x="5148360" y="1347840"/>
            <a:chExt cx="2088360" cy="1007640"/>
          </a:xfrm>
        </p:grpSpPr>
        <p:sp>
          <p:nvSpPr>
            <p:cNvPr id="112" name="Line 13"/>
            <p:cNvSpPr/>
            <p:nvPr/>
          </p:nvSpPr>
          <p:spPr>
            <a:xfrm>
              <a:off x="5148360" y="1347840"/>
              <a:ext cx="0" cy="100764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4"/>
            <p:cNvSpPr/>
            <p:nvPr/>
          </p:nvSpPr>
          <p:spPr>
            <a:xfrm>
              <a:off x="5148360" y="1347840"/>
              <a:ext cx="208836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>
              <a:off x="5148360" y="2355480"/>
              <a:ext cx="208836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6"/>
            <p:cNvSpPr/>
            <p:nvPr/>
          </p:nvSpPr>
          <p:spPr>
            <a:xfrm>
              <a:off x="7236720" y="1347840"/>
              <a:ext cx="0" cy="100764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7"/>
          <p:cNvGrpSpPr/>
          <p:nvPr/>
        </p:nvGrpSpPr>
        <p:grpSpPr>
          <a:xfrm>
            <a:off x="1330200" y="4084560"/>
            <a:ext cx="1873080" cy="1369800"/>
            <a:chOff x="1330200" y="4084560"/>
            <a:chExt cx="1873080" cy="1369800"/>
          </a:xfrm>
        </p:grpSpPr>
        <p:sp>
          <p:nvSpPr>
            <p:cNvPr id="117" name="Line 18"/>
            <p:cNvSpPr/>
            <p:nvPr/>
          </p:nvSpPr>
          <p:spPr>
            <a:xfrm>
              <a:off x="1330200" y="4084560"/>
              <a:ext cx="1873080" cy="7380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9"/>
            <p:cNvSpPr/>
            <p:nvPr/>
          </p:nvSpPr>
          <p:spPr>
            <a:xfrm>
              <a:off x="1330200" y="4084560"/>
              <a:ext cx="0" cy="1369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0"/>
            <p:cNvSpPr/>
            <p:nvPr/>
          </p:nvSpPr>
          <p:spPr>
            <a:xfrm>
              <a:off x="1330200" y="5454360"/>
              <a:ext cx="12888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1"/>
            <p:cNvSpPr/>
            <p:nvPr/>
          </p:nvSpPr>
          <p:spPr>
            <a:xfrm flipV="1">
              <a:off x="2619000" y="4822200"/>
              <a:ext cx="583920" cy="63180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22"/>
          <p:cNvGrpSpPr/>
          <p:nvPr/>
        </p:nvGrpSpPr>
        <p:grpSpPr>
          <a:xfrm>
            <a:off x="3924360" y="3789000"/>
            <a:ext cx="1655280" cy="1998360"/>
            <a:chOff x="3924360" y="3789000"/>
            <a:chExt cx="1655280" cy="1998360"/>
          </a:xfrm>
        </p:grpSpPr>
        <p:sp>
          <p:nvSpPr>
            <p:cNvPr id="122" name="Line 23"/>
            <p:cNvSpPr/>
            <p:nvPr/>
          </p:nvSpPr>
          <p:spPr>
            <a:xfrm flipH="1">
              <a:off x="3924360" y="3789360"/>
              <a:ext cx="826560" cy="5335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>
              <a:off x="3924360" y="4322880"/>
              <a:ext cx="0" cy="930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5"/>
            <p:cNvSpPr/>
            <p:nvPr/>
          </p:nvSpPr>
          <p:spPr>
            <a:xfrm>
              <a:off x="3924360" y="5253120"/>
              <a:ext cx="826560" cy="534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6"/>
            <p:cNvSpPr/>
            <p:nvPr/>
          </p:nvSpPr>
          <p:spPr>
            <a:xfrm flipV="1">
              <a:off x="4750920" y="5253120"/>
              <a:ext cx="828360" cy="534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7"/>
            <p:cNvSpPr/>
            <p:nvPr/>
          </p:nvSpPr>
          <p:spPr>
            <a:xfrm>
              <a:off x="5579640" y="4187880"/>
              <a:ext cx="0" cy="1065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8"/>
            <p:cNvSpPr/>
            <p:nvPr/>
          </p:nvSpPr>
          <p:spPr>
            <a:xfrm flipH="1" flipV="1">
              <a:off x="4613760" y="3789000"/>
              <a:ext cx="965520" cy="3985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9"/>
          <p:cNvGrpSpPr/>
          <p:nvPr/>
        </p:nvGrpSpPr>
        <p:grpSpPr>
          <a:xfrm>
            <a:off x="6119640" y="3933360"/>
            <a:ext cx="2268360" cy="1728720"/>
            <a:chOff x="6119640" y="3933360"/>
            <a:chExt cx="2268360" cy="1728720"/>
          </a:xfrm>
        </p:grpSpPr>
        <p:sp>
          <p:nvSpPr>
            <p:cNvPr id="129" name="Line 30"/>
            <p:cNvSpPr/>
            <p:nvPr/>
          </p:nvSpPr>
          <p:spPr>
            <a:xfrm flipH="1">
              <a:off x="6119640" y="3933720"/>
              <a:ext cx="432720" cy="540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1"/>
            <p:cNvSpPr/>
            <p:nvPr/>
          </p:nvSpPr>
          <p:spPr>
            <a:xfrm>
              <a:off x="6119640" y="4474080"/>
              <a:ext cx="0" cy="75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2"/>
            <p:cNvSpPr/>
            <p:nvPr/>
          </p:nvSpPr>
          <p:spPr>
            <a:xfrm>
              <a:off x="6119640" y="5228640"/>
              <a:ext cx="432720" cy="433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3"/>
            <p:cNvSpPr/>
            <p:nvPr/>
          </p:nvSpPr>
          <p:spPr>
            <a:xfrm>
              <a:off x="6552360" y="5662080"/>
              <a:ext cx="140256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4"/>
            <p:cNvSpPr/>
            <p:nvPr/>
          </p:nvSpPr>
          <p:spPr>
            <a:xfrm flipV="1">
              <a:off x="7954920" y="5228640"/>
              <a:ext cx="432720" cy="433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5"/>
            <p:cNvSpPr/>
            <p:nvPr/>
          </p:nvSpPr>
          <p:spPr>
            <a:xfrm flipV="1">
              <a:off x="8388000" y="4474080"/>
              <a:ext cx="0" cy="75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 flipH="1" flipV="1">
              <a:off x="7954920" y="3933360"/>
              <a:ext cx="432720" cy="5403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7"/>
            <p:cNvSpPr/>
            <p:nvPr/>
          </p:nvSpPr>
          <p:spPr>
            <a:xfrm flipH="1">
              <a:off x="6552360" y="3933720"/>
              <a:ext cx="140256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38"/>
          <p:cNvSpPr/>
          <p:nvPr/>
        </p:nvSpPr>
        <p:spPr>
          <a:xfrm>
            <a:off x="1836720" y="2997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9"/>
          <p:cNvSpPr/>
          <p:nvPr/>
        </p:nvSpPr>
        <p:spPr>
          <a:xfrm>
            <a:off x="5219640" y="285912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四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0"/>
          <p:cNvSpPr/>
          <p:nvPr/>
        </p:nvSpPr>
        <p:spPr>
          <a:xfrm>
            <a:off x="971640" y="5740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四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1"/>
          <p:cNvSpPr/>
          <p:nvPr/>
        </p:nvSpPr>
        <p:spPr>
          <a:xfrm>
            <a:off x="3924360" y="58784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六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2"/>
          <p:cNvSpPr/>
          <p:nvPr/>
        </p:nvSpPr>
        <p:spPr>
          <a:xfrm>
            <a:off x="6335640" y="58784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Calibri"/>
              </a:rPr>
              <a:t>八边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56000" y="0"/>
            <a:ext cx="417672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边形的有关概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324000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什么叫三角形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8"/>
          <p:cNvGrpSpPr/>
          <p:nvPr/>
        </p:nvGrpSpPr>
        <p:grpSpPr>
          <a:xfrm>
            <a:off x="6659280" y="1557360"/>
            <a:ext cx="1872000" cy="1657080"/>
            <a:chOff x="6659280" y="1557360"/>
            <a:chExt cx="1872000" cy="1657080"/>
          </a:xfrm>
        </p:grpSpPr>
        <p:sp>
          <p:nvSpPr>
            <p:cNvPr id="145" name="Line 4"/>
            <p:cNvSpPr/>
            <p:nvPr/>
          </p:nvSpPr>
          <p:spPr>
            <a:xfrm flipH="1">
              <a:off x="6659280" y="1557360"/>
              <a:ext cx="934920" cy="158436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>
              <a:off x="7574040" y="1557360"/>
              <a:ext cx="936720" cy="165708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6659640" y="3157560"/>
              <a:ext cx="1871640" cy="0"/>
            </a:xfrm>
            <a:prstGeom prst="line">
              <a:avLst/>
            </a:prstGeom>
            <a:ln w="76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6588000" y="4938840"/>
            <a:ext cx="1873440" cy="1369800"/>
            <a:chOff x="6588000" y="4938840"/>
            <a:chExt cx="1873440" cy="1369800"/>
          </a:xfrm>
        </p:grpSpPr>
        <p:sp>
          <p:nvSpPr>
            <p:cNvPr id="149" name="Line 7"/>
            <p:cNvSpPr/>
            <p:nvPr/>
          </p:nvSpPr>
          <p:spPr>
            <a:xfrm>
              <a:off x="6588000" y="4938840"/>
              <a:ext cx="1873440" cy="7380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>
              <a:off x="6588000" y="4938840"/>
              <a:ext cx="0" cy="1369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6588000" y="6306840"/>
              <a:ext cx="1289160" cy="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10"/>
            <p:cNvSpPr/>
            <p:nvPr/>
          </p:nvSpPr>
          <p:spPr>
            <a:xfrm flipV="1">
              <a:off x="7877160" y="5676840"/>
              <a:ext cx="584280" cy="63144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11"/>
          <p:cNvSpPr/>
          <p:nvPr/>
        </p:nvSpPr>
        <p:spPr>
          <a:xfrm>
            <a:off x="2843280" y="62064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由不在同一直线的三条线段首尾顺次相接而成的图形叫做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</a:rPr>
              <a:t>三角形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90400" y="1916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</a:rPr>
              <a:t>什么叫多边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365040" y="24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256536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在同一平面内，由一些线段首尾顺次相接组成的图形叫做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多边形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722240" y="4005360"/>
            <a:ext cx="39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如果一个多边形由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条线段组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那么这个多边形就叫做</a:t>
            </a:r>
            <a:r>
              <a:rPr b="1" lang="zh-CN" sz="3200" spc="-1" strike="noStrike">
                <a:solidFill>
                  <a:srgbClr val="008000"/>
                </a:solidFill>
                <a:latin typeface="华文中宋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n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</a:rPr>
              <a:t>边形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46760" y="515772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多边形按组成它的线段的条数分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三角形、四边形、五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Arial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4006080" y="1197000"/>
            <a:ext cx="12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：请列出生活中的一些多边形，并指出其特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684360" y="2205000"/>
            <a:ext cx="76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析：生活中存在很多的多边形，它们的形状都是为了与生活相适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684360" y="3933720"/>
            <a:ext cx="736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房屋顶是三角形，因为三角形有稳定性；螺母底面为六边形，是为了方便安装和拆卸；黑板为四边形，是为了满足教学的使用；等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2243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例题讲解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2250360" y="148428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多边形的概念中，要分清以下几个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29400" y="2319480"/>
            <a:ext cx="22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在平面内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188520" y="2968560"/>
            <a:ext cx="12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若干线段不在同一直线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346760" y="3760920"/>
            <a:ext cx="27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首尾顺次相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380240" y="463860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所形成的封闭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5410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边形概念的重要提示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2"/>
          <p:cNvSpPr/>
          <p:nvPr/>
        </p:nvSpPr>
        <p:spPr>
          <a:xfrm>
            <a:off x="691344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689440" y="3860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905440" y="566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7921800" y="5661000"/>
            <a:ext cx="8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8496360" y="4365720"/>
            <a:ext cx="6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6049440" y="3284280"/>
            <a:ext cx="2449800" cy="2448360"/>
            <a:chOff x="6049440" y="3284280"/>
            <a:chExt cx="2449800" cy="2448360"/>
          </a:xfrm>
        </p:grpSpPr>
        <p:sp>
          <p:nvSpPr>
            <p:cNvPr id="175" name="Line 17"/>
            <p:cNvSpPr/>
            <p:nvPr/>
          </p:nvSpPr>
          <p:spPr>
            <a:xfrm flipH="1">
              <a:off x="6049440" y="3284640"/>
              <a:ext cx="1251720" cy="10306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6049800" y="4315320"/>
              <a:ext cx="109080" cy="1416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6158880" y="5732640"/>
              <a:ext cx="20142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8173080" y="4830840"/>
              <a:ext cx="326160" cy="9014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H="1" flipV="1">
              <a:off x="7301160" y="3284280"/>
              <a:ext cx="1197720" cy="15462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Arc 28"/>
          <p:cNvSpPr/>
          <p:nvPr/>
        </p:nvSpPr>
        <p:spPr>
          <a:xfrm>
            <a:off x="6049800" y="4221000"/>
            <a:ext cx="216000" cy="432000"/>
          </a:xfrm>
          <a:custGeom>
            <a:avLst/>
            <a:gdLst>
              <a:gd name="textAreaLeft" fmla="*/ 0 w 216000"/>
              <a:gd name="textAreaRight" fmla="*/ 216360 w 216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31116" h="43200">
                <a:moveTo>
                  <a:pt x="9515" y="0"/>
                </a:moveTo>
                <a:cubicBezTo>
                  <a:pt x="21445" y="0"/>
                  <a:pt x="31116" y="9670"/>
                  <a:pt x="31116" y="21600"/>
                </a:cubicBezTo>
                <a:cubicBezTo>
                  <a:pt x="31116" y="-32007"/>
                  <a:pt x="21445" y="-22336"/>
                  <a:pt x="9516" y="-22336"/>
                </a:cubicBezTo>
                <a:cubicBezTo>
                  <a:pt x="6216" y="-22336"/>
                  <a:pt x="2961" y="-23092"/>
                  <a:pt x="0" y="-24546"/>
                </a:cubicBezTo>
              </a:path>
              <a:path stroke="0" w="31116" h="43200">
                <a:moveTo>
                  <a:pt x="9515" y="0"/>
                </a:moveTo>
                <a:cubicBezTo>
                  <a:pt x="21445" y="0"/>
                  <a:pt x="31116" y="9670"/>
                  <a:pt x="31116" y="21600"/>
                </a:cubicBezTo>
                <a:cubicBezTo>
                  <a:pt x="31116" y="-32007"/>
                  <a:pt x="21445" y="-22336"/>
                  <a:pt x="9516" y="-22336"/>
                </a:cubicBezTo>
                <a:cubicBezTo>
                  <a:pt x="6216" y="-22336"/>
                  <a:pt x="2961" y="-23092"/>
                  <a:pt x="0" y="-24546"/>
                </a:cubicBezTo>
                <a:lnTo>
                  <a:pt x="9516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9"/>
          <p:cNvSpPr/>
          <p:nvPr/>
        </p:nvSpPr>
        <p:spPr>
          <a:xfrm flipH="1">
            <a:off x="8282880" y="4727520"/>
            <a:ext cx="142920" cy="360360"/>
          </a:xfrm>
          <a:custGeom>
            <a:avLst/>
            <a:gdLst>
              <a:gd name="textAreaLeft" fmla="*/ -360 w 142920"/>
              <a:gd name="textAreaRight" fmla="*/ 142920 w 142920"/>
              <a:gd name="textAreaTop" fmla="*/ 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21600" h="405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515"/>
                  <a:pt x="17269" y="36797"/>
                  <a:pt x="10314" y="40577"/>
                </a:cubicBezTo>
              </a:path>
              <a:path stroke="0" w="21600" h="405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515"/>
                  <a:pt x="17269" y="36797"/>
                  <a:pt x="10314" y="40577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30"/>
          <p:cNvSpPr/>
          <p:nvPr/>
        </p:nvSpPr>
        <p:spPr>
          <a:xfrm>
            <a:off x="6122880" y="5445000"/>
            <a:ext cx="217440" cy="268560"/>
          </a:xfrm>
          <a:custGeom>
            <a:avLst/>
            <a:gdLst>
              <a:gd name="textAreaLeft" fmla="*/ 0 w 217440"/>
              <a:gd name="textAreaRight" fmla="*/ 217800 w 217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fill="none" w="21600" h="317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155"/>
                  <a:pt x="20722" y="28655"/>
                  <a:pt x="19045" y="31790"/>
                </a:cubicBezTo>
              </a:path>
              <a:path stroke="0" w="21600" h="317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155"/>
                  <a:pt x="20722" y="28655"/>
                  <a:pt x="19045" y="3179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31"/>
          <p:cNvSpPr/>
          <p:nvPr/>
        </p:nvSpPr>
        <p:spPr>
          <a:xfrm flipV="1" rot="10261800">
            <a:off x="7936920" y="5530320"/>
            <a:ext cx="344520" cy="206640"/>
          </a:xfrm>
          <a:custGeom>
            <a:avLst/>
            <a:gdLst>
              <a:gd name="textAreaLeft" fmla="*/ 0 w 344520"/>
              <a:gd name="textAreaRight" fmla="*/ 344520 w 344520"/>
              <a:gd name="textAreaTop" fmla="*/ 360 h 206640"/>
              <a:gd name="textAreaBottom" fmla="*/ 207360 h 206640"/>
            </a:gdLst>
            <a:ahLst/>
            <a:rect l="textAreaLeft" t="textAreaTop" r="textAreaRight" b="textAreaBottom"/>
            <a:pathLst>
              <a:path fill="none" w="36037" h="23747">
                <a:moveTo>
                  <a:pt x="0" y="5533"/>
                </a:moveTo>
                <a:cubicBezTo>
                  <a:pt x="3964" y="1970"/>
                  <a:pt x="9106" y="-1"/>
                  <a:pt x="14437" y="0"/>
                </a:cubicBezTo>
                <a:cubicBezTo>
                  <a:pt x="26366" y="0"/>
                  <a:pt x="36037" y="9670"/>
                  <a:pt x="36037" y="21600"/>
                </a:cubicBezTo>
                <a:cubicBezTo>
                  <a:pt x="36037" y="22316"/>
                  <a:pt x="36001" y="23033"/>
                  <a:pt x="35930" y="23747"/>
                </a:cubicBezTo>
              </a:path>
              <a:path stroke="0" w="36037" h="23747">
                <a:moveTo>
                  <a:pt x="0" y="5533"/>
                </a:moveTo>
                <a:cubicBezTo>
                  <a:pt x="3964" y="1970"/>
                  <a:pt x="9106" y="-1"/>
                  <a:pt x="14437" y="0"/>
                </a:cubicBezTo>
                <a:cubicBezTo>
                  <a:pt x="26366" y="0"/>
                  <a:pt x="36037" y="9670"/>
                  <a:pt x="36037" y="21600"/>
                </a:cubicBezTo>
                <a:cubicBezTo>
                  <a:pt x="36037" y="22316"/>
                  <a:pt x="36001" y="23033"/>
                  <a:pt x="35930" y="23747"/>
                </a:cubicBezTo>
                <a:lnTo>
                  <a:pt x="14437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32"/>
          <p:cNvSpPr/>
          <p:nvPr/>
        </p:nvSpPr>
        <p:spPr>
          <a:xfrm flipH="1" rot="17299200">
            <a:off x="7061040" y="3219480"/>
            <a:ext cx="431640" cy="282600"/>
          </a:xfrm>
          <a:custGeom>
            <a:avLst/>
            <a:gdLst>
              <a:gd name="textAreaLeft" fmla="*/ -360 w 431640"/>
              <a:gd name="textAreaRight" fmla="*/ 431640 w 4316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fill="none" w="21600" h="31978">
                <a:moveTo>
                  <a:pt x="17249" y="0"/>
                </a:moveTo>
                <a:cubicBezTo>
                  <a:pt x="20073" y="3746"/>
                  <a:pt x="21600" y="8309"/>
                  <a:pt x="21600" y="13000"/>
                </a:cubicBezTo>
                <a:cubicBezTo>
                  <a:pt x="21600" y="20915"/>
                  <a:pt x="17269" y="28197"/>
                  <a:pt x="10314" y="31977"/>
                </a:cubicBezTo>
              </a:path>
              <a:path stroke="0" w="21600" h="31978">
                <a:moveTo>
                  <a:pt x="17249" y="0"/>
                </a:moveTo>
                <a:cubicBezTo>
                  <a:pt x="20073" y="3746"/>
                  <a:pt x="21600" y="8309"/>
                  <a:pt x="21600" y="13000"/>
                </a:cubicBezTo>
                <a:cubicBezTo>
                  <a:pt x="21600" y="20915"/>
                  <a:pt x="17269" y="28197"/>
                  <a:pt x="10314" y="31977"/>
                </a:cubicBezTo>
                <a:lnTo>
                  <a:pt x="0" y="130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539640" y="292428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多边形相邻两边组成的角叫做它的内角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539640" y="472428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如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五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ABCD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的内角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53"/>
          <p:cNvGrpSpPr/>
          <p:nvPr/>
        </p:nvGrpSpPr>
        <p:grpSpPr>
          <a:xfrm>
            <a:off x="5724360" y="404640"/>
            <a:ext cx="2592720" cy="2024280"/>
            <a:chOff x="5724360" y="404640"/>
            <a:chExt cx="2592720" cy="2024280"/>
          </a:xfrm>
        </p:grpSpPr>
        <p:grpSp>
          <p:nvGrpSpPr>
            <p:cNvPr id="188" name="Group 46"/>
            <p:cNvGrpSpPr/>
            <p:nvPr/>
          </p:nvGrpSpPr>
          <p:grpSpPr>
            <a:xfrm>
              <a:off x="6144840" y="692280"/>
              <a:ext cx="1872000" cy="1657080"/>
              <a:chOff x="6144840" y="692280"/>
              <a:chExt cx="1872000" cy="1657080"/>
            </a:xfrm>
          </p:grpSpPr>
          <p:sp>
            <p:nvSpPr>
              <p:cNvPr id="189" name="Line 47"/>
              <p:cNvSpPr/>
              <p:nvPr/>
            </p:nvSpPr>
            <p:spPr>
              <a:xfrm flipH="1">
                <a:off x="6144840" y="692280"/>
                <a:ext cx="934920" cy="158436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48"/>
              <p:cNvSpPr/>
              <p:nvPr/>
            </p:nvSpPr>
            <p:spPr>
              <a:xfrm>
                <a:off x="7059600" y="692280"/>
                <a:ext cx="936720" cy="165708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49"/>
              <p:cNvSpPr/>
              <p:nvPr/>
            </p:nvSpPr>
            <p:spPr>
              <a:xfrm>
                <a:off x="6145200" y="2292480"/>
                <a:ext cx="1871640" cy="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Text Box 50"/>
            <p:cNvSpPr/>
            <p:nvPr/>
          </p:nvSpPr>
          <p:spPr>
            <a:xfrm>
              <a:off x="7135200" y="4046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1"/>
            <p:cNvSpPr/>
            <p:nvPr/>
          </p:nvSpPr>
          <p:spPr>
            <a:xfrm>
              <a:off x="5724360" y="206064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2"/>
            <p:cNvSpPr/>
            <p:nvPr/>
          </p:nvSpPr>
          <p:spPr>
            <a:xfrm>
              <a:off x="8014320" y="206064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54"/>
          <p:cNvSpPr/>
          <p:nvPr/>
        </p:nvSpPr>
        <p:spPr>
          <a:xfrm>
            <a:off x="2319120" y="1052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三角形两边的夹角叫做三角形的内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5"/>
          <p:cNvSpPr/>
          <p:nvPr/>
        </p:nvSpPr>
        <p:spPr>
          <a:xfrm>
            <a:off x="1428120" y="1628640"/>
            <a:ext cx="22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如图中的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1" lang="en-US" sz="1800" spc="-1" strike="noStrike">
                <a:solidFill>
                  <a:srgbClr val="000000"/>
                </a:solidFill>
                <a:latin typeface="华文中宋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华文中宋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华文中宋"/>
              </a:rPr>
              <a:t>、∠</a:t>
            </a:r>
            <a:r>
              <a:rPr b="1" lang="en-US" sz="1800" spc="-1" strike="noStrike">
                <a:solidFill>
                  <a:srgbClr val="000000"/>
                </a:solidFill>
                <a:latin typeface="华文中宋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6"/>
          <p:cNvSpPr/>
          <p:nvPr/>
        </p:nvSpPr>
        <p:spPr>
          <a:xfrm>
            <a:off x="1069560" y="2205000"/>
            <a:ext cx="18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多边形的内角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419040"/>
            <a:ext cx="303516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华文中宋"/>
              </a:rPr>
              <a:t>三角形的内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8"/>
          <p:cNvSpPr/>
          <p:nvPr/>
        </p:nvSpPr>
        <p:spPr>
          <a:xfrm>
            <a:off x="611280" y="5349960"/>
            <a:ext cx="50403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、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46"/>
          <p:cNvGrpSpPr/>
          <p:nvPr/>
        </p:nvGrpSpPr>
        <p:grpSpPr>
          <a:xfrm>
            <a:off x="5435640" y="2778120"/>
            <a:ext cx="3419280" cy="3389760"/>
            <a:chOff x="5435640" y="2778120"/>
            <a:chExt cx="3419280" cy="3389760"/>
          </a:xfrm>
        </p:grpSpPr>
        <p:sp>
          <p:nvSpPr>
            <p:cNvPr id="201" name="Text Box 2"/>
            <p:cNvSpPr/>
            <p:nvPr/>
          </p:nvSpPr>
          <p:spPr>
            <a:xfrm>
              <a:off x="6659640" y="27781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3"/>
            <p:cNvSpPr/>
            <p:nvPr/>
          </p:nvSpPr>
          <p:spPr>
            <a:xfrm>
              <a:off x="5435640" y="378612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5651640" y="55864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7667640" y="558648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8242200" y="4290840"/>
              <a:ext cx="6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7"/>
            <p:cNvGrpSpPr/>
            <p:nvPr/>
          </p:nvGrpSpPr>
          <p:grpSpPr>
            <a:xfrm>
              <a:off x="5796000" y="3209400"/>
              <a:ext cx="2449080" cy="2448360"/>
              <a:chOff x="5796000" y="3209400"/>
              <a:chExt cx="2449080" cy="2448360"/>
            </a:xfrm>
          </p:grpSpPr>
          <p:sp>
            <p:nvSpPr>
              <p:cNvPr id="207" name="Line 8"/>
              <p:cNvSpPr/>
              <p:nvPr/>
            </p:nvSpPr>
            <p:spPr>
              <a:xfrm flipH="1">
                <a:off x="5796000" y="3209760"/>
                <a:ext cx="1251360" cy="1030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9"/>
              <p:cNvSpPr/>
              <p:nvPr/>
            </p:nvSpPr>
            <p:spPr>
              <a:xfrm>
                <a:off x="5796000" y="4240440"/>
                <a:ext cx="109080" cy="14169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0"/>
              <p:cNvSpPr/>
              <p:nvPr/>
            </p:nvSpPr>
            <p:spPr>
              <a:xfrm>
                <a:off x="5905080" y="5657760"/>
                <a:ext cx="201384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11"/>
              <p:cNvSpPr/>
              <p:nvPr/>
            </p:nvSpPr>
            <p:spPr>
              <a:xfrm flipV="1">
                <a:off x="7918920" y="4755960"/>
                <a:ext cx="326160" cy="901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2"/>
              <p:cNvSpPr/>
              <p:nvPr/>
            </p:nvSpPr>
            <p:spPr>
              <a:xfrm flipH="1" flipV="1">
                <a:off x="7047000" y="3209400"/>
                <a:ext cx="1197720" cy="1546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Line 13"/>
          <p:cNvSpPr/>
          <p:nvPr/>
        </p:nvSpPr>
        <p:spPr>
          <a:xfrm flipV="1">
            <a:off x="7020000" y="2595240"/>
            <a:ext cx="792000" cy="64764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rc 14"/>
          <p:cNvSpPr/>
          <p:nvPr/>
        </p:nvSpPr>
        <p:spPr>
          <a:xfrm>
            <a:off x="7236000" y="3065400"/>
            <a:ext cx="142560" cy="425520"/>
          </a:xfrm>
          <a:custGeom>
            <a:avLst/>
            <a:gdLst>
              <a:gd name="textAreaLeft" fmla="*/ 0 w 142560"/>
              <a:gd name="textAreaRight" fmla="*/ 142920 w 1425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fill="none" w="21600" h="405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515"/>
                  <a:pt x="17269" y="36797"/>
                  <a:pt x="10314" y="40577"/>
                </a:cubicBezTo>
              </a:path>
              <a:path stroke="0" w="21600" h="405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9515"/>
                  <a:pt x="17269" y="36797"/>
                  <a:pt x="10314" y="40577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d60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7378560" y="30654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0" y="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三角形的外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24000" y="30686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</a:rPr>
              <a:t>多边形的边与它的邻边的延长线组成的角叫做多边形的外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468360" y="4797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如：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是五边形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ABCDE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的一个外角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1"/>
          <p:cNvGrpSpPr/>
          <p:nvPr/>
        </p:nvGrpSpPr>
        <p:grpSpPr>
          <a:xfrm>
            <a:off x="6084720" y="390600"/>
            <a:ext cx="2592720" cy="2023920"/>
            <a:chOff x="6084720" y="390600"/>
            <a:chExt cx="2592720" cy="2023920"/>
          </a:xfrm>
        </p:grpSpPr>
        <p:grpSp>
          <p:nvGrpSpPr>
            <p:cNvPr id="219" name="Group 32"/>
            <p:cNvGrpSpPr/>
            <p:nvPr/>
          </p:nvGrpSpPr>
          <p:grpSpPr>
            <a:xfrm>
              <a:off x="6505200" y="677880"/>
              <a:ext cx="1872000" cy="1656720"/>
              <a:chOff x="6505200" y="677880"/>
              <a:chExt cx="1872000" cy="1656720"/>
            </a:xfrm>
          </p:grpSpPr>
          <p:sp>
            <p:nvSpPr>
              <p:cNvPr id="220" name="Line 33"/>
              <p:cNvSpPr/>
              <p:nvPr/>
            </p:nvSpPr>
            <p:spPr>
              <a:xfrm flipH="1">
                <a:off x="6505200" y="677880"/>
                <a:ext cx="934920" cy="158400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34"/>
              <p:cNvSpPr/>
              <p:nvPr/>
            </p:nvSpPr>
            <p:spPr>
              <a:xfrm>
                <a:off x="7419960" y="677880"/>
                <a:ext cx="936720" cy="165672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35"/>
              <p:cNvSpPr/>
              <p:nvPr/>
            </p:nvSpPr>
            <p:spPr>
              <a:xfrm>
                <a:off x="6505560" y="2277720"/>
                <a:ext cx="1871640" cy="0"/>
              </a:xfrm>
              <a:prstGeom prst="line">
                <a:avLst/>
              </a:prstGeom>
              <a:ln w="7632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Text Box 36"/>
            <p:cNvSpPr/>
            <p:nvPr/>
          </p:nvSpPr>
          <p:spPr>
            <a:xfrm>
              <a:off x="7495560" y="3906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7"/>
            <p:cNvSpPr/>
            <p:nvPr/>
          </p:nvSpPr>
          <p:spPr>
            <a:xfrm>
              <a:off x="6084720" y="204624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38"/>
            <p:cNvSpPr/>
            <p:nvPr/>
          </p:nvSpPr>
          <p:spPr>
            <a:xfrm>
              <a:off x="8374680" y="2046240"/>
              <a:ext cx="30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39"/>
          <p:cNvSpPr/>
          <p:nvPr/>
        </p:nvSpPr>
        <p:spPr>
          <a:xfrm>
            <a:off x="8317080" y="2276640"/>
            <a:ext cx="358560" cy="576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0"/>
          <p:cNvSpPr/>
          <p:nvPr/>
        </p:nvSpPr>
        <p:spPr>
          <a:xfrm>
            <a:off x="8028000" y="2276640"/>
            <a:ext cx="431640" cy="252360"/>
          </a:xfrm>
          <a:custGeom>
            <a:avLst/>
            <a:gdLst>
              <a:gd name="textAreaLeft" fmla="*/ 0 w 431640"/>
              <a:gd name="textAreaRight" fmla="*/ 432000 w 4316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72" h="159">
                <a:moveTo>
                  <a:pt x="0" y="0"/>
                </a:moveTo>
                <a:cubicBezTo>
                  <a:pt x="23" y="56"/>
                  <a:pt x="46" y="113"/>
                  <a:pt x="91" y="136"/>
                </a:cubicBezTo>
                <a:cubicBezTo>
                  <a:pt x="136" y="159"/>
                  <a:pt x="242" y="136"/>
                  <a:pt x="272" y="1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1"/>
          <p:cNvSpPr/>
          <p:nvPr/>
        </p:nvSpPr>
        <p:spPr>
          <a:xfrm>
            <a:off x="7999560" y="2421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3347640" y="476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三角形一边与另一边的延长线组成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4"/>
          <p:cNvSpPr/>
          <p:nvPr/>
        </p:nvSpPr>
        <p:spPr>
          <a:xfrm>
            <a:off x="1385640" y="1125360"/>
            <a:ext cx="33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就是∆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的一个外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26748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多边形的外角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3T23:36:49Z</dcterms:created>
  <dc:creator>Administrator</dc:creator>
  <dc:description/>
  <dc:language>en-US</dc:language>
  <cp:lastModifiedBy>Administrator</cp:lastModifiedBy>
  <dcterms:modified xsi:type="dcterms:W3CDTF">2018-05-17T02:02:09Z</dcterms:modified>
  <cp:revision>4</cp:revision>
  <dc:subject/>
  <dc:title>幻灯片 1</dc:title>
</cp:coreProperties>
</file>